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820-646C-4363-AB38-9A3093B5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355-4FD2-4696-83B6-4C081E83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08B-B677-4FA1-B45F-B7DC6DF6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356-60F5-41E4-86CB-0921AB5F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4FA-655E-4BCB-AF53-D862395D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F72-14F0-4B47-9C5F-D09343D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3A1-B88E-45B5-A1DC-F87BAD14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770-C7D9-450C-886F-0968F48E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4F6-F872-491A-B092-645FB49F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4E2A-2B42-422E-A45D-6417212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4C0-23CA-46AA-9B0D-68BC45A5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890-A900-45C7-BA6F-9A074EC5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E285-CF71-45FB-AF22-2151D30E7F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C13E-8503-47C1-A6D5-62F1CB1D7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2952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333399"/>
                </a:solidFill>
                <a:latin typeface="Arial"/>
              </a:rPr>
              <a:t>DISEÑO DE BASES DE DATOS PARA APLICACIONES DE COMERCIO ELECTRÓNICO  “E-COMMER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358128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808080"/>
                </a:solidFill>
                <a:latin typeface="Arial"/>
              </a:rPr>
              <a:t>Sistemas de Bas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808080"/>
                </a:solidFill>
                <a:latin typeface="Arial"/>
              </a:rPr>
              <a:t>Presenter: Ricardo Le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33412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99"/>
                </a:solidFill>
                <a:latin typeface="Arial"/>
              </a:rPr>
              <a:t>FACULTAD DE INGENIERÍA DE 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333399"/>
                </a:solidFill>
                <a:latin typeface="Arial"/>
              </a:rPr>
              <a:t>UNIVERSIDAD AUTÓNOMA DE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17550-6D7A-4A51-B839-03EED47D08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57200"/>
            <a:ext cx="22860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 PRO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0240" y="1523880"/>
            <a:ext cx="8102880" cy="375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90D3E-943D-47EE-8D20-AB2C10B7CC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457200"/>
            <a:ext cx="259092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 PRICEW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36480" y="1452600"/>
            <a:ext cx="8050320" cy="388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E1382-3A14-489E-9BD1-5C3B87D901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457200"/>
            <a:ext cx="259092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 PROD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249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D95A8-544D-443A-A2D2-620FDA5A8C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905120" y="289548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acias !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680068"/>
                </a:solidFill>
                <a:latin typeface="Arial"/>
              </a:rPr>
              <a:t>DISEÑO DE BASES DE DATOS PARA APLICACIONES DE COMERCIO ELECTRÓNICO  “E-COMMER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24016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202062"/>
                </a:solidFill>
                <a:latin typeface="Arial"/>
              </a:rPr>
              <a:t>Sistemas de Bas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202062"/>
                </a:solidFill>
                <a:latin typeface="Arial"/>
              </a:rPr>
              <a:t>Presenter: Ricardo Le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00BC1-347B-45D1-9FFD-5A28B4EA1F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15238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. Requerimientos básicos para diseño de Bases de Datos E-</a:t>
            </a:r>
            <a:r>
              <a:rPr b="0" lang="es-CO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990720" y="31240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. Reglas básicas del nego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4956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3. Resumen de Ent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86DCF-6171-4A8A-AFA5-B18FBE1DF2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58000"/>
          </a:blip>
          <a:stretch/>
        </p:blipFill>
        <p:spPr>
          <a:xfrm>
            <a:off x="533520" y="1089000"/>
            <a:ext cx="2057400" cy="1577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95480" y="4941720"/>
            <a:ext cx="2514600" cy="191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>
            <a:lum bright="60000"/>
          </a:blip>
          <a:stretch/>
        </p:blipFill>
        <p:spPr>
          <a:xfrm>
            <a:off x="76320" y="493380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19787400">
            <a:off x="3733560" y="1066320"/>
            <a:ext cx="4686120" cy="1720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457200"/>
            <a:ext cx="73152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1. Requerimentos básicos para diseño de Bases de Datos E-Commer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952880" y="4724280"/>
            <a:ext cx="333396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1905120"/>
            <a:ext cx="7620120" cy="3794760"/>
          </a:xfrm>
          <a:prstGeom prst="rect">
            <a:avLst/>
          </a:prstGeom>
          <a:solidFill>
            <a:srgbClr val="20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La base de datos deberá soportar la capacidad del sitio Web, para mostrar los productos o servicios disponibles y de realizar transacciones de ventas bás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Ofrecer características enfocadas en el servicio al cliente, devoluciones de Productos y determinación del perfíl del cliente para hacer que la experiencia del cliente en la web sea placent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"/>
              </a:rPr>
              <a:t>Las entidades definidas para el soporte de la venta de productos, son las más dedicadas principal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B8114-F3CD-4D64-9A93-D41A954BAE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990099"/>
                </a:solidFill>
                <a:latin typeface="Arial"/>
              </a:rPr>
              <a:t>2. Reglas del negocio bás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015920"/>
            <a:ext cx="8077320" cy="5075640"/>
          </a:xfrm>
          <a:prstGeom prst="rect">
            <a:avLst/>
          </a:prstGeom>
          <a:solidFill>
            <a:srgbClr val="6800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Las tablas PRODUCTO y CLIENTE son las más relevan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La relación más considerada es la de 1:M (CLIENTE – PEDID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1:M entre PEDIDO y ORDLI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1:M entre PRODUCTO y ORDL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PRODTYPE Vs. PRODUCT  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 Existe especial rel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SHOPCAR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perteneca a un CLIENTE y se refiere a uno o más product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Entidad PEDIDO 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cuando el cliente cierra el pedido 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SHOPCAR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cleaned 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SHIPOTION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permite seleccionar el medio para realizar la entreg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PMOPTIONS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formas de pago (Master Card, VISA, … et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ESTADOS / IMPUESTOS </a:t>
            </a:r>
            <a:r>
              <a:rPr b="0" lang="es-CO" sz="1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O" sz="1900" spc="-1" strike="noStrike">
                <a:solidFill>
                  <a:srgbClr val="ffffff"/>
                </a:solidFill>
                <a:latin typeface="Arial"/>
              </a:rPr>
              <a:t> rastrea estado Vs. Taza de Impue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91B04-30B1-4EC9-A3EB-AF67E1A378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9720" y="990720"/>
            <a:ext cx="7777080" cy="5029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14800" y="457200"/>
            <a:ext cx="43434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S PRINCIPALES DE E-COMME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A86FD-D03D-4FB0-AD8D-3249A10476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457200"/>
            <a:ext cx="198108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9480" y="762120"/>
            <a:ext cx="8000640" cy="5943240"/>
            <a:chOff x="609480" y="762120"/>
            <a:chExt cx="8000640" cy="594324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656280" y="762120"/>
              <a:ext cx="7953840" cy="43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609480" y="4954320"/>
              <a:ext cx="7914240" cy="17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14EF0-F9A7-4293-B234-A6E160A610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457200"/>
            <a:ext cx="22860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PRODU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214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175AB-8A05-4163-83CE-FD9E205FC8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457200"/>
            <a:ext cx="22860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 PROD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2081160"/>
            <a:ext cx="8458200" cy="233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50FAB-809D-4FB5-8DC8-5626DD2B94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457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08000"/>
                </a:solidFill>
                <a:latin typeface="Arial"/>
              </a:rPr>
              <a:t>3. Resumen de Ent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1880" y="6324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a6f8a8"/>
              </a:gs>
              <a:gs pos="100000">
                <a:srgbClr val="4c724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457200"/>
            <a:ext cx="2286000" cy="337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Arial"/>
              </a:rPr>
              <a:t>TABLA  PED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52760"/>
            <a:ext cx="8381880" cy="29955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4B0F7-1717-4276-9A92-3DADCE13CA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20:45:03Z</dcterms:created>
  <dc:creator>LEONCARD</dc:creator>
  <dc:description/>
  <dc:language>en-US</dc:language>
  <cp:lastModifiedBy>LEONCARD</cp:lastModifiedBy>
  <dcterms:modified xsi:type="dcterms:W3CDTF">2010-05-25T00:13:16Z</dcterms:modified>
  <cp:revision>41</cp:revision>
  <dc:subject/>
  <dc:title>Slide 1</dc:title>
</cp:coreProperties>
</file>